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CD55-C743-4205-AA29-3B80227A1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B1FD-4068-4196-8874-66EDD1058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D6A1-805C-4DB7-B4FF-0973D3CA5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41D2-84E9-4017-80E0-43F68901E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CB49-5819-4F20-8DDC-381219502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E2BA-C05A-4470-B57F-22533E1F7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A923-7885-4C57-9037-CC1101ED7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BEE5-E457-4BD2-959C-BA1EA20A8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3329-E676-4D99-BFE1-3B2A83532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3BB4-FFDD-42E0-BA21-CDBC33A16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28A3-3D5B-4089-A5D5-127149E35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2694-F2F6-4321-B125-6EA45D545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6CB1-76AD-4EB5-9CEB-0DEBEE352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0BBC-A3A3-4AA8-B6DD-64E892FE8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4471-1959-46AA-A985-EB95D6FD7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823-FD41-48CA-8892-599CCC44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626-09ED-4C55-B4F2-929F6E8C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4FF4-4D67-4CA3-B282-54CCD836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E50-F001-40D4-A1B0-21F7BE32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BBA-4F40-4D4F-A5D0-2676989C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5CA-EDF6-4F8E-B47C-42152B03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DBE-D7D3-4114-83B4-D9803C92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842-DAF4-4FEB-BA2B-7355F4DF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B54-68DD-46AA-AF9A-3831D87D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E79-3E53-43BF-B611-8DFE1297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E96-052A-4932-8EDD-9004A96B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F53-252B-4BF0-BA2E-1497C30D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A846-2A1A-4499-9EC7-32065A76A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74EF-B89F-45DF-A1DB-F6D849A8430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И КОМПЛИКАЦИЈЕ ПОСЛЕ ВАЂЕЊА ЗУБ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4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9-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Фактори од значаја за зарастање рана у устима, алвеолитис, инфекција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ране, постекстракциони бол и страно тело у ра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1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 Доц. др Марија Буб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4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9B90-2911-4B17-82AD-0F201FD95EB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469800" y="1720800"/>
            <a:ext cx="819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Крајем прве и почетком друге недеље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агулум је добро организован . Отвор ране је знатно смањен. Око десетог дана јављају се први знаци калцификације дуж спољних зидова алвеоле.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матра се да се кост јавља као последица периосталне остеогенезе, као одговор на дејство сила употребљених  за вађење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C:\Users\Zoran\Downloads\oralna hirurgija\slike\imagesphs.jpg"/>
          <p:cNvPicPr/>
          <p:nvPr/>
        </p:nvPicPr>
        <p:blipFill>
          <a:blip r:embed="rId1"/>
          <a:stretch/>
        </p:blipFill>
        <p:spPr>
          <a:xfrm>
            <a:off x="2766960" y="3367080"/>
            <a:ext cx="3537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0" y="6424560"/>
            <a:ext cx="3713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1568-BFB1-4361-A87C-510817D7F85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20840" y="1563840"/>
            <a:ext cx="8423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Крајем друге недељ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ивице мањих алвеола су прекривене епите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ве недеље после вађења зуба алвеола је испуњена дебелим крвним судо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идни су и знаци стварања нове кости у центру саме алве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вом периоду таложе се соли калцијума, тако да је око 30-ог дана алвеола испуњена са око 2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/3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новом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вице епителизиране алвеоле су нешто ниже од ивица суседних зуба, што је последица активности остеокласта, тј. ресорпциј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ко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четврте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деље новоформирана кост постаје дебља и слична ламеларној кости, а дебљина крвних судова се смању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0" y="6424560"/>
            <a:ext cx="3727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8A15-8D7D-4095-AF53-76377E5F854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69800" y="1768320"/>
            <a:ext cx="815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Шест недељ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ле вађења зуба алвеола је испуњена новим трабекулама између који је фина фаскуларна мре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лвеола се у потпуности испуњава коштаним ткивом 4-6 месеци после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slika 4"/>
          <p:cNvPicPr/>
          <p:nvPr/>
        </p:nvPicPr>
        <p:blipFill>
          <a:blip r:embed="rId1"/>
          <a:srcRect l="0" t="13179" r="0" b="16525"/>
          <a:stretch/>
        </p:blipFill>
        <p:spPr>
          <a:xfrm>
            <a:off x="0" y="3287880"/>
            <a:ext cx="9144000" cy="23047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307800" y="58910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Palatino Linotype"/>
              </a:rPr>
              <a:t>0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700280" y="58672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Palatino Linotype"/>
              </a:rPr>
              <a:t>1.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202200" y="58435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Palatino Linotype"/>
              </a:rPr>
              <a:t>2.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4729320" y="5859360"/>
            <a:ext cx="120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4</a:t>
            </a:r>
            <a:r>
              <a:rPr b="0" lang="sr-CS" sz="16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6219720" y="5859360"/>
            <a:ext cx="12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8.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7711920" y="58593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2.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91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оступак са раном после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D183-BB0E-418F-892F-E1194441A1C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325440" y="1442880"/>
            <a:ext cx="86612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клонити из алвеоле сва страна тела која могу да ометају и компликују зарастање ране ( заостало корење, делове кости алвеоле, амалгамске пломбе, каменац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странити заостало гранулационо ткиво и хроничне периапикалне проце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штре ивице кости треба заоблити како не би иритирале околна мека ткива, такође и интеррадикуларни септум који има уску б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штећене делове гингиве треба ексциди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понирати коштане лам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спровоцирати крварење ако је алвеола сув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Чиниоци од значаја за зарастање рана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FE4B-4238-4782-8ED4-4770CBCA7DC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480960" y="1492200"/>
            <a:ext cx="8169480" cy="54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ОПШТИ ЧИНИОЦ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хипопротеинемија и анемија, хиповитаминоза витамина А, Ц и Д, примена кортизона и кортикостероида, старост пацијента и многа друга системска обољења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ЛОКАЛНИ ЧИНИО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љувачка                                -  Траума која настаје вађењ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икроорганизми                     -  Затварање ране под тензиј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чин настанка ране             -   Локализација и врста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остао корен у рани             -   Вазоконстриктор у анаестез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траалвеоларна киретажа  -   Апликовање медика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7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96BB-220A-46CA-90CD-9E7890BBA5C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480960" y="1768320"/>
            <a:ext cx="8169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УСПОРЕНО ЗАРАСТАЊЕ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 представља компликацију у правом смислу те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нема клиничких манифестација у смислу болова, инфекције или крвар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ично се региструје код пацијената  за које се зна да су били изложени факторима који успоравају процес зарастања 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пацијенти на радиотерапији у пределу лица или пацијенти на дуготрајној терапији кортикостероидим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неки локални чиниоци делују на успорено зарас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медикаменти у алвеоли или веће разарање кост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0D43-449B-49B6-B4AF-47C63D83D12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28480" y="1768320"/>
            <a:ext cx="818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ПОСТЕКСТРАКЦИОНИ 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дна од најчешћих компликација после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и узроци: повреда меких ткива, поцепана и нагњечена гингива, повреда кости и периоста, фрактура алвеоларног наставка, назупчене ивице кости, инфекција ран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ести узрок бола су перзистентни интеррадикуларни и интердентални септу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есто услед луксационих покрета, може доћи до микроповреда септума, која није клинички евидент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FE64-986A-4FED-911C-8FDD0FE1399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4" name="Picture 11" descr="C:\Users\Zoran\Downloads\oralna hirurgija\slike\imagesseptum.jpg"/>
          <p:cNvPicPr/>
          <p:nvPr/>
        </p:nvPicPr>
        <p:blipFill>
          <a:blip r:embed="rId1"/>
          <a:srcRect l="3443" t="3373" r="2899" b="22254"/>
          <a:stretch/>
        </p:blipFill>
        <p:spPr>
          <a:xfrm>
            <a:off x="2538360" y="150336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C:\Users\Zoran\Downloads\oralna hirurgija\slike\imagesbgfr.jpg"/>
          <p:cNvPicPr/>
          <p:nvPr/>
        </p:nvPicPr>
        <p:blipFill>
          <a:blip r:embed="rId2"/>
          <a:srcRect l="688" t="4062" r="54700" b="52708"/>
          <a:stretch/>
        </p:blipFill>
        <p:spPr>
          <a:xfrm>
            <a:off x="673200" y="4246560"/>
            <a:ext cx="2832120" cy="190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Zoran\Downloads\oralna hirurgija\slike\imagesbgfr.jpg"/>
          <p:cNvPicPr/>
          <p:nvPr/>
        </p:nvPicPr>
        <p:blipFill>
          <a:blip r:embed="rId3"/>
          <a:srcRect l="50948" t="58791" r="3049" b="6103"/>
          <a:stretch/>
        </p:blipFill>
        <p:spPr>
          <a:xfrm>
            <a:off x="4824360" y="4282920"/>
            <a:ext cx="346068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0" y="6424560"/>
            <a:ext cx="375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93A8-30A0-49E6-881E-8FDF45BE30E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469800" y="1514520"/>
            <a:ext cx="8277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АЛВЕОЛ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 поремећај у првој и другој фази зарастања 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лвеолитис чешће настаје код вађења гангренозних и пулпитичних зуба а готово никад код пародонтопатичних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највећем проценту се јавља после екстракције доњих умњ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дан од фаворизујућих фактора у настанку алвеолита је рад са машином и борер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матра се да је фибринолиза у самој алвеоли један од главних фактора за настанак ове комплик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C:\Users\Zoran\Downloads\oralna hirurgija\slike\imagesxsx.jpg"/>
          <p:cNvPicPr/>
          <p:nvPr/>
        </p:nvPicPr>
        <p:blipFill>
          <a:blip r:embed="rId1"/>
          <a:stretch/>
        </p:blipFill>
        <p:spPr>
          <a:xfrm>
            <a:off x="6635880" y="5089680"/>
            <a:ext cx="1400040" cy="135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0" y="6424560"/>
            <a:ext cx="403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DF4C-4263-477A-A128-48CFBB38D72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6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469800" y="1612800"/>
            <a:ext cx="8204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тиопатогенеза алвеолитиса ни до данас није потпуно разјашњ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ћина је прихватила схватање да се алвеолитис јавља због поремећаја локалног метаболизма алвеоле у којој постоји исх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dry-socket-2.jpg"/>
          <p:cNvPicPr/>
          <p:nvPr/>
        </p:nvPicPr>
        <p:blipFill>
          <a:blip r:embed="rId1"/>
          <a:stretch/>
        </p:blipFill>
        <p:spPr>
          <a:xfrm>
            <a:off x="1995480" y="3728880"/>
            <a:ext cx="518148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6CD2-AF34-40F3-9D6D-669734B7BF7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457200" y="1528920"/>
            <a:ext cx="8217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дносу на изложеност према спољној средини, ране у устима могу да буду: затворене и отвор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творене су хируршке ране, оне које настају у току орално-хируршких интервенција и оне се затварају хируршким шаво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творене ране су чешће и настају после вађења зуба, а њихова орална површина је у директном контакту са усном дупљ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C:\Users\Zoran\Downloads\oralna hirurgija\slike\imagesnbn.jpg"/>
          <p:cNvPicPr/>
          <p:nvPr/>
        </p:nvPicPr>
        <p:blipFill>
          <a:blip r:embed="rId1"/>
          <a:stretch/>
        </p:blipFill>
        <p:spPr>
          <a:xfrm>
            <a:off x="5456160" y="4118040"/>
            <a:ext cx="2932200" cy="21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Users\Zoran\Pictures\slike pacijenti\slike\Milan Rakic\IMG_4373.jpg"/>
          <p:cNvPicPr/>
          <p:nvPr/>
        </p:nvPicPr>
        <p:blipFill>
          <a:blip r:embed="rId2"/>
          <a:srcRect l="18975" t="40016" r="31722" b="16521"/>
          <a:stretch/>
        </p:blipFill>
        <p:spPr>
          <a:xfrm>
            <a:off x="565200" y="4162320"/>
            <a:ext cx="315900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24560"/>
            <a:ext cx="3851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DA71-2452-4BC9-8721-89ACAB9595E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469800" y="1647720"/>
            <a:ext cx="816948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ЛИНИЧКА СЛИКА АЛВЕОЛИТ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суство здравог, виталног коагул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тезиван бол ( иригација према уву, врату и слепочниц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lveolitis exudativa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– алвеола је испуњена распадутим и дезорганизованим коагулумом, који је прљаво сиве боје, непријатног мириса и лако се кида пинц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C:\Users\Zoran\Downloads\oralna hirurgija\slike\imagesvfd.jpg"/>
          <p:cNvPicPr/>
          <p:nvPr/>
        </p:nvPicPr>
        <p:blipFill>
          <a:blip r:embed="rId1"/>
          <a:srcRect l="41380" t="630" r="30699" b="42520"/>
          <a:stretch/>
        </p:blipFill>
        <p:spPr>
          <a:xfrm>
            <a:off x="3416400" y="4619520"/>
            <a:ext cx="1973160" cy="16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0" y="6424560"/>
            <a:ext cx="4073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10B0-6FC1-4008-8458-11E5AEF7EC4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469800" y="1936800"/>
            <a:ext cx="81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lveolitis sicc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– алвеола је потпуно празна, без икаквог коагулу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C:\Users\Zoran\Downloads\oralna hirurgija\slike\imagesnhbn.jpg"/>
          <p:cNvPicPr/>
          <p:nvPr/>
        </p:nvPicPr>
        <p:blipFill>
          <a:blip r:embed="rId1"/>
          <a:stretch/>
        </p:blipFill>
        <p:spPr>
          <a:xfrm>
            <a:off x="2568600" y="2975040"/>
            <a:ext cx="379728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0" y="6424560"/>
            <a:ext cx="3962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DB57-6B99-45DF-8D7E-AC4A99E62F8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66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457200" y="1805040"/>
            <a:ext cx="818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тг налаз – види се задебљала ламина дура која онемогућава довољно крвар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Zoran\Downloads\oralna hirurgija\slike\imagescdfd.jpg"/>
          <p:cNvPicPr/>
          <p:nvPr/>
        </p:nvPicPr>
        <p:blipFill>
          <a:blip r:embed="rId1"/>
          <a:stretch/>
        </p:blipFill>
        <p:spPr>
          <a:xfrm>
            <a:off x="2703600" y="2562120"/>
            <a:ext cx="3340080" cy="24829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0"/>
          <p:cNvSpPr/>
          <p:nvPr/>
        </p:nvSpPr>
        <p:spPr>
          <a:xfrm>
            <a:off x="673200" y="5100480"/>
            <a:ext cx="795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апија- формирање виталног, еластичног и компактног коагулума који смањује бол пацијен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62BE-549D-4CDA-89BA-C46647A2972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67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480960" y="1768320"/>
            <a:ext cx="820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ИНФЕКЦИЈА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507960" y="2502000"/>
            <a:ext cx="7964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ома ретка компликација. Чешће се јавља после вађења зуба са већ постојећом инфекцијом. (периапикално или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коронар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инфекције ране је пре свега антибиотс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infected-wisdom-tooth-socket-after-extraction-1.jpg"/>
          <p:cNvPicPr/>
          <p:nvPr/>
        </p:nvPicPr>
        <p:blipFill>
          <a:blip r:embed="rId1"/>
          <a:stretch/>
        </p:blipFill>
        <p:spPr>
          <a:xfrm>
            <a:off x="2881440" y="4173480"/>
            <a:ext cx="3625560" cy="21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21E3-B1A8-438B-8709-F7A0B326800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444600" y="1503360"/>
            <a:ext cx="8170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СТРАНО ТЕЛО У 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ило да се ради о делу инструмента или секвестру обавезно је његово вађење из алве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СЕКУНДАРНО ПОСТЕКСТРАКЦИОНО КРВАР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ДЕФОРМАЦИЈА АЛВЕОЛАРНОГ ГРЕБ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C:\Users\Zoran\Downloads\oralna hirurgija\slike\imagesvchg.jpg"/>
          <p:cNvPicPr/>
          <p:nvPr/>
        </p:nvPicPr>
        <p:blipFill>
          <a:blip r:embed="rId1"/>
          <a:stretch/>
        </p:blipFill>
        <p:spPr>
          <a:xfrm>
            <a:off x="3035160" y="4095720"/>
            <a:ext cx="3114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9DD1-BD6A-47AF-B55A-F6F5610E21E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493560" y="1805040"/>
            <a:ext cx="8132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опште посматрано, постоје три фазе кроз које пролази зарастање ране: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ролиферативна фаз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3-5 дана ),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ибробластна фаз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( 2-3 недеље ) и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аза сазревања ран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квиру ових фаза долази до ултраструктурних, инфламаторних и пролиферативних про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C:\Users\Zoran\Pictures\imagesCAVHGJG3.jpg"/>
          <p:cNvPicPr/>
          <p:nvPr/>
        </p:nvPicPr>
        <p:blipFill>
          <a:blip r:embed="rId1"/>
          <a:stretch/>
        </p:blipFill>
        <p:spPr>
          <a:xfrm>
            <a:off x="3046320" y="3824280"/>
            <a:ext cx="32212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3743-91D1-4136-A66B-2E665362A0D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457200" y="1684440"/>
            <a:ext cx="83739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нас су од посебног значаја у савременим схватањима процеса регенерације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актори 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пидермални фактор раста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EGF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актор раста пореклом из тромбоцита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DGF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обласни фактор раста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GF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ансформишући фактор раста алфа и бета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GF- alfa TGF-bet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итоки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FCAF-496A-40F5-A75A-7122DC68097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93560" y="1671480"/>
            <a:ext cx="814572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дносу на начин и квалитет, постоје три врсте зарастања ра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per primam intentionem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марно зарастањ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per secundam intentionem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кундарно зарастањ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per tertiam intetionem</a:t>
            </a: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подразумева зарастање употребом  режњева преко ткива која зарастају секундар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0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0" y="6424560"/>
            <a:ext cx="38656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3BBD-6D5B-4695-A2F7-D2F901F103B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469800" y="1515960"/>
            <a:ext cx="8156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на настала вађењем зуба у току зарастања пролази кроз следеће фа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ормирање коагул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рганизација коагулума помоћу пролиферације гранулацио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мена гранулационог ткива везивним ткивом  и епителизација и затварање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ормирање нове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healing-oforalwounds-copy-44-638.jpg"/>
          <p:cNvPicPr/>
          <p:nvPr/>
        </p:nvPicPr>
        <p:blipFill>
          <a:blip r:embed="rId1"/>
          <a:srcRect l="0" t="0" r="2121" b="54411"/>
          <a:stretch/>
        </p:blipFill>
        <p:spPr>
          <a:xfrm>
            <a:off x="1547640" y="4365720"/>
            <a:ext cx="569772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1679-D753-4BEB-9011-EC85B37AAA6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444600" y="1552680"/>
            <a:ext cx="8170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лога коагулума је вишестр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н својим механичким дејством притиска околне крвне судове и обезбеђуј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хемостазу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ко формиран коагулум представља основу за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олиферацију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ћелијских елемената из околног ткива, а уједно и штити околна сензитивна нервна влакна и смањује б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ериоду од формирања до организовања, коагулум трпи квалитативне и квантитативне про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C:\Users\Zoran\Downloads\oralna hirurgija\slike\imagesy.jpg"/>
          <p:cNvPicPr/>
          <p:nvPr/>
        </p:nvPicPr>
        <p:blipFill>
          <a:blip r:embed="rId1"/>
          <a:srcRect l="5853" t="-1776" r="39475" b="0"/>
          <a:stretch/>
        </p:blipFill>
        <p:spPr>
          <a:xfrm>
            <a:off x="2490840" y="4175280"/>
            <a:ext cx="42829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CD34-DBAD-41DB-9538-7F98888C9E8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85920" y="1587600"/>
            <a:ext cx="8408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рвог дан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рвне ћелије су у коагулуму присутне у истој пропорцији као и у општој циркулацији, локализоване између мреже фибринских влакана. Тамно црвен је, еластичан притиском на пинцету се уги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ин је прва структура која повезује ивице р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агулум показује зону контракције и ствара се сером који је добра подлога за настанак инфе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рва два три дана ствара се и прво гранулационо ткиво на периферији ране насталој од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рална површина коагулума постаје беличаста, а прекривена је дебелим слојем фибрина који штити рану. У овој фази, појављују се фактори раста, који активирају и стимулишу процес зараст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AE03-692E-42B0-981A-A0287246D44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457200" y="1731960"/>
            <a:ext cx="8193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четком прве недељ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почиње митотичка активност епителних ћел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области пролиферишу од ћелија везивног ткива из остатака периодонталне мембране ( од периферије ка центру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ћег – четвртог дана после вађења зуба почиње и ангиогенеза према отвору алве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C:\Users\Zoran\Downloads\oralna hirurgija\slike\imagescvg.jpg"/>
          <p:cNvPicPr/>
          <p:nvPr/>
        </p:nvPicPr>
        <p:blipFill>
          <a:blip r:embed="rId1"/>
          <a:stretch/>
        </p:blipFill>
        <p:spPr>
          <a:xfrm>
            <a:off x="2390760" y="3987720"/>
            <a:ext cx="4356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6:00:36Z</dcterms:modified>
  <cp:revision>1126</cp:revision>
  <dc:subject/>
  <dc:title>NAZIV PREDAVANJA</dc:title>
</cp:coreProperties>
</file>